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DCA-1EB6-4598-AE87-0686697E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AE4-6E6C-4B7A-9541-B1F35609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F0A-C6B2-4413-B87B-CA2414C5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B7B-8766-46DF-BD54-A317A372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95E-A168-478C-A36D-A1374A5B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D9F-732E-41F6-9B19-26FF3025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B7E-D343-47E3-A795-700C2889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0BD-C0DA-4C2B-B4D9-1E204DE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65B-0CA7-400A-AB3C-15A4E1C6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7A5-93AB-409B-BFFD-6BC010E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099-FE7C-40E3-98A0-343AC2EC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512-5137-4C66-860F-55010B64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5814-044C-4E75-8F0F-405D58C1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9280" y="414360"/>
            <a:ext cx="43426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Titles of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man Old Style"/>
              </a:rPr>
              <a:t>The Queen of Heaven and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38520" y="7364520"/>
            <a:ext cx="4984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Please see other side for: 100 titles of Our Lad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~ ~ ~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Sea of Sor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Virgin most Sorrow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Mother of Sor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Sorrowful and Immaculate Heart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341360" y="1332000"/>
            <a:ext cx="417852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00:56:59Z</dcterms:created>
  <dc:creator> Mike Bizzaro</dc:creator>
  <dc:description/>
  <dc:language>en-US</dc:language>
  <cp:lastModifiedBy>Mike Bizzaro</cp:lastModifiedBy>
  <dcterms:modified xsi:type="dcterms:W3CDTF">2006-06-09T14:04:43Z</dcterms:modified>
  <cp:revision>6</cp:revision>
  <dc:subject/>
  <dc:title>Slide 1</dc:title>
</cp:coreProperties>
</file>